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DCB-8918-46CB-A550-3FB2DFF3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7DD-F550-40C6-ADBB-48F08B2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10E-6A63-4034-858F-55C5D2CD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206-F9CE-45B3-A4EC-DAAAB338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C8C-6E4D-4195-8A78-CB7129EB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7BE-6854-493B-B63F-FDC061AE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990-2007-43B3-BB09-26E338AF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9CF-673E-44EC-9E1D-D443420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748-136F-49D7-A51E-774E9328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56A-7B8F-4E66-BB11-DC74996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F51-C247-4A63-BBAE-F909AB1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8E0-E13D-4555-A66C-954FDF7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F73B-ECA0-4D82-9E93-2CC676BE7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4360" y="609480"/>
            <a:ext cx="6368040" cy="100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TYPES OF ROC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514600" cy="196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4080" y="304812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715000" y="4343400"/>
            <a:ext cx="175248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838080" y="4266720"/>
            <a:ext cx="137160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coarse-grained, slow-cooling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has a dark color because it contains NO Qua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76696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5. GABB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n Intr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gneous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Melting and C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76696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cd7246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often red in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is a fast-cooling, non-crystal rock with 50%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d7246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6. SCO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243792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n Extrusive Igneous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Melting and C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99cc00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formed when rounded river rocks are cemented together by river m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e rocks are rounded by running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6280" y="1981080"/>
            <a:ext cx="36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merican Typewriter"/>
              </a:rPr>
              <a:t>#7. CONGLOMER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Sedimentary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Weathering, Erosion, Deposition, Cementation, and Comp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6280" y="1981080"/>
            <a:ext cx="36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6600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shows fol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is a course-textured rock made from granite and arranged in alternating bands of light and dark mine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8. GNEI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24280" y="25909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Metamorphic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Heat &amp;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a fine-textured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was formed from sh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is often used for chalkbo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9320" y="1981080"/>
            <a:ext cx="328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9. S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is a 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formed by Heat &amp;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49320" y="1981080"/>
            <a:ext cx="328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5320" y="25909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formed in the surf zone of an oc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From broken pieces of shells cement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8862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2285640"/>
            <a:ext cx="3886200" cy="335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merican Typewriter"/>
              </a:rPr>
              <a:t>#10. BONU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dentify this type of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How was  it form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What is this rock’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2386080"/>
            <a:ext cx="38098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1. COQU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00240" y="198072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Weathering, Erosion, Deposition, Cementation, and Comp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9621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371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65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a natural volcanic glass with many h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may float on wa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2. PUM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23920" y="274284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is an Extrusive Igneous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formed by Melting and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371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24280" y="25909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very shiny coarse-textured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e blurred minerals are visible to the human ey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contains  raw Emerald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3. SCHI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is a 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formed by Heat &amp;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ffd37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rock forms in deserts, beaches, and river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has distinct grains of sand cement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e grains are usually made of small quartz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d37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4. SANDST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Sedimentary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Weathering, Erosion, Deposition, Cementation, and Comp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6:09:18Z</dcterms:created>
  <dc:creator>Eric Knapp</dc:creator>
  <dc:description/>
  <dc:language>en-US</dc:language>
  <cp:lastModifiedBy>Eric Knapp</cp:lastModifiedBy>
  <cp:lastPrinted>2004-06-18T18:37:03Z</cp:lastPrinted>
  <dcterms:modified xsi:type="dcterms:W3CDTF">2005-03-04T11:44:52Z</dcterms:modified>
  <cp:revision>58</cp:revision>
  <dc:subject/>
  <dc:title>PowerPoint Presentation</dc:title>
</cp:coreProperties>
</file>